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2961-6BFF-4B8B-8F9F-666CA9A06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3C13-0E01-478C-B2CE-4A0E82E67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2476-1E7A-4668-85C9-554AF1C07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B1CD-EB35-439D-A53B-519C22959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CD72-FE14-4CAE-90F7-6F4AEC4D4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00C1-CFFA-4658-A399-B8CE2B13D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B8B1-9F2E-414B-B2C3-4303FB238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CC74-3FFC-4470-A2F1-75B4FC0FC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A869-095A-46B9-B830-4AF5A3F0F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CD4C-EEA4-4294-8DFB-E93F038FA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4DB4-FAD4-4668-9FA7-B463086BA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FEF0-1412-484C-AE86-2C8E72BB5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F177-DBB0-4B36-AFA5-A5792178A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7876-5702-4748-951E-3D0D4F5F8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9639-1402-4766-AD80-D3F4F5706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3381-AC5A-4EE5-A714-2EF08C650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C18C-690D-4340-B2E1-9DFBDBA13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CFBB-0734-4118-A3E0-B2FC9612B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F345-B935-4D17-B9A0-31CAB2B8A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61E2-0772-4EA3-A2EB-4B4B138A1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4443-9C16-4141-8802-886027568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C80F-D74C-49B4-AEC6-9D39D51BF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D2BD2-ECC4-4481-AD18-63A72C912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A8042-61ED-49A7-BFDF-76C397645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56E74-0E65-44F6-979A-EF49F43A6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28F99-9BB2-4C89-B7E0-8B3AF154F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958D-D6C6-4E49-9AA5-977652B315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4B0-1970-4E38-BC5A-5473D17245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E71F-3DE7-482F-9860-F40D48A483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B648-157C-4EE3-85B4-4D7312076B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CD2-B4A4-4D00-8116-0DCD98509F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A0CE-C323-465C-BEA6-73710DB1E0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026-1E83-47D7-AA91-64759B065E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A741E-7721-40E2-B517-BA8F13B4D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D9E-0946-480F-9CD6-5B107EDC0E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BF5-B634-48EA-9FD2-4C60C5D937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66C1-55BA-4B27-83CD-31E765D3D4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6979-B6C0-49AA-AB92-E563F4704C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4EFF-2DEE-4116-9241-C316111C05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F022F-C66D-47F0-B164-8E65E33201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B4EE5-171C-494E-BBAA-C23101CA0F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E5D99-5EF3-41B6-8A32-CD20EBC5AB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F0BDF-ED7B-4E87-B74C-98F6E7E52F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F1878-41EC-41CE-A162-9BAD628D5D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487B3-5DA6-4132-9717-BDE64FCA65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AE4B0-7DD8-4D49-B5B4-C9DA4692AF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658C6-18AA-45DB-B581-F12FC01A1F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B351F-4A18-4A47-9B93-FAAF1983F9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FE678-EFF7-4208-A6AD-DDA5AFCD85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62525-05CC-4006-A759-05E534CE59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05173-E51A-4AE1-A553-BD84D945E5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B4A9C-4AEF-41F4-AE65-26853054B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43F4F-D677-4998-9CD0-0ED1CEB7F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1B644-8C03-48B1-BB48-164A1BECC4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86A2E-8D8E-4E7A-A4EE-6C5B97B4F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CD530-98A7-45F6-94A9-D53EE92C3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A9C04-8197-4EAC-8CE4-47CFB6744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DC3D6-D4D5-4550-B9B8-DA811CC03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27A0-8BE9-40CB-A7E3-1B480964F9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983D-DE65-40FA-95D0-1A6DEB1D11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5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CBD7-D54A-4C33-B356-BB9B423127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5480" y="2023560"/>
            <a:ext cx="6096240" cy="193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Контроль качеств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: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Молекулярная диагностик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D3EF-A14C-4FB1-9C41-3DEFC1D9B5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07A4-7DCE-4B74-A04A-550494056D32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рицательный результа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61CF-C7ED-403C-A38B-63E9D99138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5257-5F9B-48B9-84AB-DE55E3FDE881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иск использования ПЦР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инство методов ПЦР в реальном времени «домашнего изготовления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ймеры не всегда оптимизированы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ожительные контроли «домашнего изготовлени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ицательные контроли «домашнего изготовлени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терпретировать результаты следует с осторожность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7B0B-823F-408B-9BBD-1CAC6CADAE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2A57-D114-45AD-A533-2776B9F84468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4197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щий подход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Взятие, транспортировка и обработ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72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еспечьте сохранность нуклеиновых кислот во время эти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Контроль контамин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72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одностороннее движение по технологической цепочке: от зоны, свободной от ДНК, где готовят реагенты, к зоне обработки проб, затем к зоне, где происходит амплификация и анализ продук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Положительные и отрицательные контро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Ссылка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: CLSI MM3-A (Molecular Diagnostic Methods for Infectious Diseases</a:t>
            </a: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етоды молекулярной диагностики инфекционных заболеваний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]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E734-767D-4394-8F8E-AD09DB8BF3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3D1A-7428-465C-A31A-F31DDFB23004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олекулярная диагностик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884160" y="198108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72DD-943B-40E4-8E66-C556D7C44C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ED21-CDBE-4AE4-AC57-889A873EE06C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02BA-B9D7-4815-95D1-178E1951C4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FC32-0218-46F0-AD59-C062F72659B5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ЦР в реальном времен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Р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РАЙ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</a:t>
            </a: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олиме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3733920" y="2209680"/>
            <a:ext cx="297180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мплифицир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пециф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уклеинов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змеряе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флуоресц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80A3-A259-4004-B70E-7803CA3B5A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B68A-EAF3-442C-880C-7775B32EA0C6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666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акции амплифик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4"/>
          <p:cNvSpPr/>
          <p:nvPr/>
        </p:nvSpPr>
        <p:spPr>
          <a:xfrm>
            <a:off x="1752480" y="2811600"/>
            <a:ext cx="5612040" cy="2471760"/>
          </a:xfrm>
          <a:custGeom>
            <a:avLst/>
            <a:gdLst>
              <a:gd name="textAreaLeft" fmla="*/ 0 w 5612040"/>
              <a:gd name="textAreaRight" fmla="*/ 5612040 w 5612040"/>
              <a:gd name="textAreaTop" fmla="*/ 0 h 2471760"/>
              <a:gd name="textAreaBottom" fmla="*/ 2472120 h 2471760"/>
            </a:gdLst>
            <a:ahLst/>
            <a:rect l="textAreaLeft" t="textAreaTop" r="textAreaRight" b="textAreaBottom"/>
            <a:pathLst>
              <a:path w="3535" h="1557">
                <a:moveTo>
                  <a:pt x="0" y="1509"/>
                </a:moveTo>
                <a:cubicBezTo>
                  <a:pt x="544" y="1533"/>
                  <a:pt x="1088" y="1557"/>
                  <a:pt x="1392" y="1509"/>
                </a:cubicBezTo>
                <a:cubicBezTo>
                  <a:pt x="1696" y="1461"/>
                  <a:pt x="1712" y="1333"/>
                  <a:pt x="1824" y="1221"/>
                </a:cubicBezTo>
                <a:cubicBezTo>
                  <a:pt x="1936" y="1109"/>
                  <a:pt x="1988" y="1019"/>
                  <a:pt x="2064" y="837"/>
                </a:cubicBezTo>
                <a:cubicBezTo>
                  <a:pt x="2140" y="655"/>
                  <a:pt x="2148" y="252"/>
                  <a:pt x="2283" y="126"/>
                </a:cubicBezTo>
                <a:cubicBezTo>
                  <a:pt x="2418" y="0"/>
                  <a:pt x="2665" y="94"/>
                  <a:pt x="2874" y="80"/>
                </a:cubicBezTo>
                <a:cubicBezTo>
                  <a:pt x="3083" y="66"/>
                  <a:pt x="3397" y="49"/>
                  <a:pt x="3535" y="4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Амплификация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/</a:t>
            </a: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AutoShape 6" descr=""/>
          <p:cNvPicPr/>
          <p:nvPr/>
        </p:nvPicPr>
        <p:blipFill>
          <a:blip r:embed="rId1"/>
          <a:stretch/>
        </p:blipFill>
        <p:spPr>
          <a:xfrm>
            <a:off x="523800" y="1805040"/>
            <a:ext cx="561960" cy="3462120"/>
          </a:xfrm>
          <a:prstGeom prst="rect">
            <a:avLst/>
          </a:prstGeom>
          <a:ln w="0">
            <a:noFill/>
          </a:ln>
        </p:spPr>
      </p:pic>
      <p:sp>
        <p:nvSpPr>
          <p:cNvPr id="196" name="Freeform 7"/>
          <p:cNvSpPr/>
          <p:nvPr/>
        </p:nvSpPr>
        <p:spPr>
          <a:xfrm>
            <a:off x="1752480" y="5300640"/>
            <a:ext cx="5562720" cy="135000"/>
          </a:xfrm>
          <a:custGeom>
            <a:avLst/>
            <a:gdLst>
              <a:gd name="textAreaLeft" fmla="*/ 0 w 5562720"/>
              <a:gd name="textAreaRight" fmla="*/ 5563080 w 556272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3504" h="85">
                <a:moveTo>
                  <a:pt x="0" y="69"/>
                </a:moveTo>
                <a:cubicBezTo>
                  <a:pt x="692" y="85"/>
                  <a:pt x="1375" y="79"/>
                  <a:pt x="1776" y="69"/>
                </a:cubicBezTo>
                <a:cubicBezTo>
                  <a:pt x="2177" y="59"/>
                  <a:pt x="2118" y="18"/>
                  <a:pt x="2406" y="9"/>
                </a:cubicBezTo>
                <a:cubicBezTo>
                  <a:pt x="2694" y="0"/>
                  <a:pt x="3275" y="15"/>
                  <a:pt x="3504" y="17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268600" y="240660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ОЛОЖ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5042160" y="472428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АМПЛИФИКАЦИИ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C7C4-C43D-4B9A-AE51-A4B1333194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6A47-92F1-4161-8F75-F3DC42C01D35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ЦР в реальном времен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pic>
        <p:nvPicPr>
          <p:cNvPr id="204" name="TextBox 1" descr=""/>
          <p:cNvPicPr/>
          <p:nvPr/>
        </p:nvPicPr>
        <p:blipFill>
          <a:blip r:embed="rId2"/>
          <a:stretch/>
        </p:blipFill>
        <p:spPr>
          <a:xfrm>
            <a:off x="1474920" y="2773440"/>
            <a:ext cx="353880" cy="14745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7"/>
          <p:cNvSpPr/>
          <p:nvPr/>
        </p:nvSpPr>
        <p:spPr>
          <a:xfrm>
            <a:off x="3931200" y="5334120"/>
            <a:ext cx="11592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Номер цик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7023960" y="2114640"/>
            <a:ext cx="7095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Проба 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Verdana"/>
              </a:rPr>
              <a:t>Проба 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7113960" y="4021200"/>
            <a:ext cx="5724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66"/>
                </a:solidFill>
                <a:latin typeface="Verdana"/>
              </a:rPr>
              <a:t>Поро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2879640" y="4770360"/>
            <a:ext cx="5763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Фо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2517480" y="3290760"/>
            <a:ext cx="11559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Экспоненциальна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 </a:t>
            </a: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фаз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AAFF-D78C-4BAB-BB2C-D4B8499B31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A893-8EFD-41D5-A418-A509E160D402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66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ирус гриппа </a:t>
            </a: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A557-7F58-4603-874B-7B2E6C3874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FE1F-26D0-4C1C-8826-0535FF566542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ирус гриппа </a:t>
            </a: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650880" y="1676520"/>
            <a:ext cx="7883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Olga</cp:lastModifiedBy>
  <dcterms:modified xsi:type="dcterms:W3CDTF">2013-05-12T11:03:51Z</dcterms:modified>
  <cp:revision>17</cp:revision>
  <dc:subject/>
  <dc:title>Quality Control:   Molecular Diagnostics</dc:title>
</cp:coreProperties>
</file>